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9251-2D86-4B3A-8DC7-EEE38BA0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CFE-DEF4-4A5D-AFE1-925C6D79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5CAC-265E-4974-9C39-197C4E11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06F5-0F62-4131-818F-2895D6F2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20AB-90B7-4351-AD10-23BDAF4F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EE44-15DA-4A4C-815A-38315ED8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E6E1-E68B-4DC1-94E3-66F0D47A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1377-ECC2-4FF2-9956-164591F3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DBBB-AB9B-483F-BE55-4C1CD5A3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A587-49FD-40AD-8C3D-A0C14C42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B6AC-4BA1-4C09-AC86-306FD267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483-0CEE-4BB4-B6FF-E6AD06E3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7D24-4F0D-459A-B950-A5F946BB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B324-7E34-418B-809B-607C41CE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F1DE-50E2-4289-A7C7-F667EFEA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A991-4020-4ED4-9228-B9B67D0B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46A6-74D9-4B7B-B96B-C79CEEAF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CFBF-7A53-4B04-8E91-7B327BEC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466-944B-4B5E-8A12-BD2C4799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013B-76CE-43A9-AEAF-A87E7FED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6EA-5B8B-4BB1-82AF-BC447EAA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6774-2424-49C2-A139-E0B4C360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88D5-210F-41D5-871A-65B69C0D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511-462E-431D-98FA-BCE29392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8280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592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1C4D-78AA-4876-9A8D-7FB6DE1579DF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6424-5EAD-4221-9585-ED8A4CDF490C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Verdana"/>
              </a:rPr>
              <a:t>Creative Ad Campaig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dvertising makes you spend money you don’t have for something you don’t want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-Will Rogers, American a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sponsibility - this is your responsibility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ITHER/OR Strategies for Persuasive Writ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7720" y="4647960"/>
            <a:ext cx="6629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 Black"/>
              </a:rPr>
              <a:t>E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veryone is doing this or buying this; a.k.a. the “bandwagon” technique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ntelligent people buy into this (appeal to intellect)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is is good for you or someone you know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appiness will come for you or someone you know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very reasonable person would agree (appeal to common sense)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ight-this is your right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O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Opinion of an expert - he/she says it’s a good idea or product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S Computer Lab</cp:lastModifiedBy>
  <dcterms:modified xsi:type="dcterms:W3CDTF">2008-01-22T17:38:45Z</dcterms:modified>
  <cp:revision>2</cp:revision>
  <dc:subject/>
  <dc:title>EITHER/OR Strategies for Persuasive Writing</dc:title>
</cp:coreProperties>
</file>